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DBF-E6C8-4381-BF4A-E7806042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D63-0261-427B-BD47-8659D8A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6B5-11AB-413A-A1F2-9DDA960A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50E-8B93-4C2D-96C7-3597B4EA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F1C7-34BC-43E5-AFB4-5808E62A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DD37-1F5C-456E-AD1C-866639E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6CD0-FDDE-4B0B-B122-223EA064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F268-2A07-4482-93AF-B95835C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F9FB-5220-423C-92DD-C96CB4A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E3A-CB67-4950-9EA3-1F76E5A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5E1-B8F2-4E19-9EB1-E211A21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AC7-C50D-46C2-A975-A1B84165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E20C-4D1F-41A7-BAF8-C857E30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230D-B1A6-49FC-B823-9FD8B9B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E2A6-4FA9-48FA-82DA-33E88B0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B19B-6939-46F2-B300-A0F702AA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BAE1-1C37-4A3E-9880-68C76E08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595-DFB4-4ACD-B94C-37C1E84E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D9C-A336-40C1-B111-219A019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7C9-02A6-4E95-BDFC-63816CD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E68-A20B-4C1B-BB9B-9F62369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C23-0F84-49AF-8A5A-E65CE2CE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638-612B-454C-993C-1B70043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D7B-AA97-4E43-871B-3F4AEF4F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F31-D0F0-4925-9DE3-F895B2CA1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6979-3D31-4400-9DF4-664977C0805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chelle Kwan: Heart of a Champio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in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5, The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vocabulary template was created by Anita Archer for use by grade level teams cooperatively developing Power Points for vocabulary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959-554C-4437-B1DB-15466F61A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ildren are learning how to meditate, to calm their minds.  Once they lear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ill be able to meditate for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908-5A0A-4DEB-B7DC-C436C5FEB8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lympian archer mastered m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ing how to hold the bow, release the string, and aim at the targ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5120" y="2727360"/>
            <a:ext cx="3809880" cy="26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BD2-1C1B-423F-9C35-C35F3D8FF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atik artist uses many special techniques as she creates.  How might an artist acquire these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tist might gain techniques by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5120" y="2394000"/>
            <a:ext cx="3809880" cy="33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375-518F-4085-8929-920082B7F3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cal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dj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scribe the practical skills and methods used to do an activity such as an art, a craft, or a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DBE-9FB0-4058-A470-66C2F6446B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Kwan worked very hard to maste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ce skating. Her jumps and landings require gre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.  Ice skating judges have found Michelle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78640" y="20178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52C-35A5-4DF3-9BC0-261F8106D6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 - Re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comp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If you need something, you  ______ some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If you are slow to lose your temper, you are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To do a difficult athletic skill, you need to learn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When you play a game and try to win, you _____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994-F3DE-4CCD-B3B7-FC124590E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81F-B9EB-4D32-A2F8-F5732D4533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ntroduce word and student friendly explanation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contest, sport, or game, you take part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wh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to be the best at the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1AF-7DCA-402E-9618-38A293081A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llustrate the vocabulary term with examples.)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bike rid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fastest ri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5120" y="2576520"/>
            <a:ext cx="3809880" cy="29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F63-69A1-424E-A556-C6676DA8E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llustrate the vocabulary term with examples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osball play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best tea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5120" y="2643120"/>
            <a:ext cx="380988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FBB-520C-4621-9326-6450190252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Check understanding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61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sports and games that you coul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.  Think of one that you would enj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your partner what you would like to compete i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ould like to compete in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5120" y="2782800"/>
            <a:ext cx="3809880" cy="25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7E0-6F39-4C52-A36B-34E38841E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Extension: Introduce other members of word family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mpeti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mpetit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loves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aces.  In the past, 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, running the 26 miles.  After being injured in a skiing accident, he wanted to contin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 so he joined the wheelcha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m has proven to be a gre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nning a number of races. He is ve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3F8-FD48-4FBA-AE8C-66E4D1FBD6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kill and ability in an artistic, sporting, or other practical activity that is developed through training and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359-6540-48AF-9882-46FFB0914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 of a great deal of practice, this martial artist has master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reaking brick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5120" y="2714760"/>
            <a:ext cx="3809880" cy="27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3FC-84AD-4507-8DD4-781DB7AF1E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3:05:11Z</dcterms:created>
  <dc:creator>Archer Anita</dc:creator>
  <dc:description/>
  <dc:language>en-US</dc:language>
  <cp:lastModifiedBy>Archer Anita</cp:lastModifiedBy>
  <dcterms:modified xsi:type="dcterms:W3CDTF">2012-06-10T02:57:40Z</dcterms:modified>
  <cp:revision>4</cp:revision>
  <dc:subject/>
  <dc:title>Michelle Kwan: Heart of a Champion </dc:title>
</cp:coreProperties>
</file>